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E5A-4DAD-45A9-A7C9-C35ADED9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D63-423C-4A3B-8059-F368898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2A0-E7E0-4BCC-9A60-F1D5CBF8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737-61F3-4CEB-B2EA-7BDDAD4D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91B-CD5C-4DB8-8073-A2E648D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AFE-F880-4379-AC35-CF76E623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ACA-9867-41AD-86E8-8A7A1CA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F2A-E3DC-4791-AFCE-8E286A1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DE2-88AA-4E18-A92E-D33BE25F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10C-604B-4F83-9DBA-218BE35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1AA-FBE7-44DC-AB2C-F98148D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2F3-0389-4D70-ADD5-6508E93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B7B-1E91-4FAD-9599-DF1274441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s from water (water molecule highly 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water molecule that loses a hydrogen ion becomes a negatively charged hydroxide ion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754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 molecule that gains a hydrogen ion becomes a positively charged hydronium ion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molecules produce ions we call this reaction self-ionization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419720"/>
            <a:ext cx="71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+  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4379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xide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0-2 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hydrogen-ion concentrate of a solution is used to classify the solution as acidic, neutral, or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41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mmon pH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486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pH from 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219320"/>
            <a:ext cx="7696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we know the amount of hydrogen-ion concentration, we can find out what the pH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 = -log[H+]     See sample problem 19.2  pg. 599 and do 11 and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14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[H+] from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819520"/>
            <a:ext cx="76201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find out what the hydrogen-ion concentration is in a solution if we know the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log[H+] = pH   see sample problem 19.3 pg. 600 and do 13 and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038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419720"/>
            <a:ext cx="74678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ing the pH of a solution is important in everyday lif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soil needs the right pH to grow plants…swimming 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pH from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3716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irst step involves finding out what the  H+ concentra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 = [OH-] x 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209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ith [H+] calculated, now use pH = -log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5909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sample problem 19.4 and do 15 and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elf ionization of water occurs to a small ex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71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ure water at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is at equilibrium between concentrations of [H+] and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y solution in which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and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are equal is called neutr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 Product constant fo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200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+] increases,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decreases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733920"/>
            <a:ext cx="78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q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8098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1911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 aqueous solutions, the product of the hydrogen-ion concentration and the hydroxide ion concentration equals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x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quation OK dilute (aq) solutions at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981080"/>
            <a:ext cx="7696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duct of the concentrations of the hydrogen-ion and hydroxide-ions in water = ion-product constant for water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20040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x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733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solutions are neutral, some, like HCl (hydrochloric acid, have a greater hydrogen-ion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concentration than hydroxide ion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concentration = acidic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9528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hydrogen 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ntration is 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droxide 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it’s a ba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also called alkaline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600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odium hydroxide (NaO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514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find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of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276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page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cale used to check acidity: (0-14) whereas 0 is strongly acidic, 7 is neutral, and 14 is strongly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495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is negative logarithm of the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4876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= -log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ution in whi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greater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H less than 7.0 = 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ution in which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less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133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&lt;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greater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=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equals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&gt;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less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ewis acid is a substance tha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TPChart"/>
          <p:cNvGraphicFramePr/>
          <p:nvPr/>
        </p:nvGraphicFramePr>
        <p:xfrm>
          <a:off x="533520" y="1841400"/>
          <a:ext cx="873756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73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CorShape1"/>
          <p:cNvSpPr/>
          <p:nvPr/>
        </p:nvSpPr>
        <p:spPr>
          <a:xfrm>
            <a:off x="6400800" y="32767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 a hydrogen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ate a hydrogen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 a pair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ate a pair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7200" y="1841400"/>
          <a:ext cx="881388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41400"/>
                    <a:ext cx="881388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CorShape1"/>
          <p:cNvSpPr/>
          <p:nvPr/>
        </p:nvSpPr>
        <p:spPr>
          <a:xfrm>
            <a:off x="1752480" y="32004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+ log of the hydroxide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– log of the hydroxide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– log of the hydrogen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+ log of the hydrogen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ferred between a conjugate acid-base p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c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ydronium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ydroxide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rShape1"/>
          <p:cNvSpPr/>
          <p:nvPr/>
        </p:nvSpPr>
        <p:spPr>
          <a:xfrm>
            <a:off x="2819520" y="3505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of the hydrogen ion is often writte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rShape1"/>
          <p:cNvSpPr/>
          <p:nvPr/>
        </p:nvSpPr>
        <p:spPr>
          <a:xfrm>
            <a:off x="1752480" y="228600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2:47:27Z</dcterms:created>
  <dc:creator>Farwell Area Schools</dc:creator>
  <dc:description/>
  <dc:language>en-US</dc:language>
  <cp:lastModifiedBy>Farwell Area Schools</cp:lastModifiedBy>
  <dcterms:modified xsi:type="dcterms:W3CDTF">2009-05-15T13:34:20Z</dcterms:modified>
  <cp:revision>33</cp:revision>
  <dc:subject/>
  <dc:title>Note Guide 10-2</dc:title>
</cp:coreProperties>
</file>